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28083-31DD-4CBD-BF58-FB57254E0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9C2C9-ACF4-41EB-84D6-48BD2A22D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ADA37-6438-4AAE-88B6-5EA193BA7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0B061-7FD3-4B04-8F4E-03D896257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AE2DE1-71C0-444C-B435-C920D181CF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04678-F3DF-40E1-B1A4-73A609C83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F5F34-4C5E-44E2-A0F0-6CA609C79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62550-50EE-4AE2-9D94-CF3D2ECF2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AE094-0E86-428F-A745-79B84893E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0C67E-4472-4A3C-91BF-2BD11E2B0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56949-DEBF-4311-97D0-F216E9A30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5617E-81DC-4071-97B5-6D7CFD294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61D3B-4D79-450E-A50F-4530B88E7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EFD91-DF67-4482-B518-F1DE3E2C9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CCC47-46CD-40A6-B4FA-0D1CCA0BE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D9C933-C620-475E-AC6B-56A5DE7781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7426B-DB0D-4FA3-BC30-85406EC33F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B99B4-0DFB-4834-B99F-403E89BD6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457E7-6FC5-4ACF-ADCB-137DE4D55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6840F-9375-4238-B6D5-EA8171738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E4B25-4193-4A28-BA70-7A7EF1BF0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D9B82-F7B0-4ED3-BCF9-4E8EDED6F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A75FB-7FF4-4B41-882F-EE1417AF3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96D08-32B3-45D4-93CA-566F2DA8A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04C9-4A18-49FF-B929-E5E5F97022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83EED-2B33-42EE-8217-365641A8C1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itch-Then-Plan Video Planning Template</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ortant Tips</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alk slowly and clearly</a:t>
            </a:r>
            <a:endParaRPr b="0" lang="en-US" sz="2600" spc="-1" strike="noStrike">
              <a:solidFill>
                <a:srgbClr val="ffffff"/>
              </a:solidFill>
              <a:latin typeface="Times New Roman"/>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39480" indent="-3394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 enthusias</a:t>
            </a:r>
            <a:endParaRPr b="0" lang="en-US" sz="2600" spc="-1" strike="noStrike">
              <a:solidFill>
                <a:srgbClr val="ffffff"/>
              </a:solidFill>
              <a:latin typeface="Times New Roman"/>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39480" indent="-3394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actice, Practice and Practice you need to practice because you need to know the words and stuff that you are saying </a:t>
            </a:r>
            <a:endParaRPr b="0" lang="en-US" sz="2600" spc="-1" strike="noStrike">
              <a:solidFill>
                <a:srgbClr val="ffffff"/>
              </a:solidFill>
              <a:latin typeface="Times New Roman"/>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39480" indent="-3394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You just have fun because its not like your singing in front of the whole world so just relax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This Template</a:t>
            </a:r>
            <a:endParaRPr b="0" lang="en-US" sz="4400" spc="-1" strike="noStrike">
              <a:solidFill>
                <a:srgbClr val="ffcc66"/>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use this template, read then delete all of the slides that have a black background.  Complete the slides that have a blue backgrou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Entrepreneurship</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oing</a:t>
            </a:r>
            <a:r>
              <a:rPr b="0" lang="en-US" sz="2800" spc="-1" strike="noStrike">
                <a:solidFill>
                  <a:srgbClr val="ffffff"/>
                </a:solidFill>
                <a:latin typeface="Times New Roman"/>
              </a:rPr>
              <a:t>, not learning to do, is the essence of entrepreneursh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no one ever achieved success by </a:t>
            </a:r>
            <a:r>
              <a:rPr b="0" i="1" lang="en-US" sz="2800" spc="-1" strike="noStrike">
                <a:solidFill>
                  <a:srgbClr val="ffffff"/>
                </a:solidFill>
                <a:latin typeface="Times New Roman"/>
              </a:rPr>
              <a:t>planning</a:t>
            </a:r>
            <a:r>
              <a:rPr b="0" lang="en-US" sz="2800" spc="-1" strike="noStrike">
                <a:solidFill>
                  <a:srgbClr val="ffffff"/>
                </a:solidFill>
                <a:latin typeface="Times New Roman"/>
              </a:rPr>
              <a:t> for gol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rdest thing about getting started is </a:t>
            </a:r>
            <a:r>
              <a:rPr b="0" lang="en-US" sz="2800" spc="-1" strike="noStrike" u="sng">
                <a:solidFill>
                  <a:srgbClr val="ffffff"/>
                </a:solidFill>
                <a:uFillTx/>
                <a:latin typeface="Times New Roman"/>
              </a:rPr>
              <a:t>getting</a:t>
            </a:r>
            <a:r>
              <a:rPr b="0" lang="en-US" sz="2800" spc="-1" strike="noStrike">
                <a:solidFill>
                  <a:srgbClr val="ffffff"/>
                </a:solidFill>
                <a:latin typeface="Times New Roman"/>
              </a:rPr>
              <a:t> </a:t>
            </a:r>
            <a:r>
              <a:rPr b="0" lang="en-US" sz="2800" spc="-1" strike="noStrike" u="sng">
                <a:solidFill>
                  <a:srgbClr val="ffffff"/>
                </a:solidFill>
                <a:uFillTx/>
                <a:latin typeface="Times New Roman"/>
              </a:rPr>
              <a:t>started</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an (emerging) entrepreneur, you should always be selling—not strategizing about sell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roper Process</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row together a pitch that contains the slides presented in this template.</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ry it out on some mentors, friends, and relatives.  Do this about ten times.</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et the team together in a room and discuss what you have learned.</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x the pitch.</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tart writing the scrip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plain Your Movie in The First Minute</a:t>
            </a:r>
            <a:endParaRPr b="0" lang="en-US" sz="36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ver has a presentation been given where the audience has said to itself, </a:t>
            </a:r>
            <a:r>
              <a:rPr b="0" i="1" lang="en-US" sz="2800" spc="-1" strike="noStrike">
                <a:solidFill>
                  <a:srgbClr val="ffffff"/>
                </a:solidFill>
                <a:latin typeface="Times New Roman"/>
              </a:rPr>
              <a:t>I wish the speaker had spent the first fifteen minutes explaining his life story</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you</a:t>
            </a:r>
            <a:r>
              <a:rPr b="0" lang="ja-JP" sz="2800" spc="-1" strike="noStrike">
                <a:solidFill>
                  <a:srgbClr val="ffffff"/>
                </a:solidFill>
                <a:latin typeface="Times New Roman"/>
              </a:rPr>
              <a:t>’</a:t>
            </a:r>
            <a:r>
              <a:rPr b="0" lang="en-US" sz="2800" spc="-1" strike="noStrike">
                <a:solidFill>
                  <a:srgbClr val="ffffff"/>
                </a:solidFill>
                <a:latin typeface="Times New Roman"/>
              </a:rPr>
              <a:t>re busy warming up, your listeners are inevitably wondering, </a:t>
            </a:r>
            <a:r>
              <a:rPr b="0" i="1" lang="en-US" sz="2800" spc="-1" strike="noStrike">
                <a:solidFill>
                  <a:srgbClr val="ffffff"/>
                </a:solidFill>
                <a:latin typeface="Times New Roman"/>
              </a:rPr>
              <a:t>is your movie abou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everyone a favor:  Answer that question in the </a:t>
            </a:r>
            <a:r>
              <a:rPr b="0" lang="en-US" sz="2800" spc="-1" strike="noStrike" u="sng">
                <a:solidFill>
                  <a:srgbClr val="ffffff"/>
                </a:solidFill>
                <a:uFillTx/>
                <a:latin typeface="Times New Roman"/>
              </a:rPr>
              <a:t>first minute</a:t>
            </a:r>
            <a:r>
              <a:rPr b="0" lang="en-US" sz="2800" spc="-1" strike="noStrike">
                <a:solidFill>
                  <a:srgbClr val="ffffff"/>
                </a:solidFill>
                <a:latin typeface="Times New Roman"/>
              </a:rPr>
              <a:t>.  Once the audience has learned what you do, they can listen to everything else with a more focused perspecti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137124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rog   </a:t>
            </a:r>
            <a:endParaRPr b="0" lang="en-US" sz="4400" spc="-1" strike="noStrike">
              <a:solidFill>
                <a:srgbClr val="ffcc66"/>
              </a:solidFill>
              <a:latin typeface="Arial"/>
            </a:endParaRPr>
          </a:p>
        </p:txBody>
      </p:sp>
      <p:sp>
        <p:nvSpPr>
          <p:cNvPr id="98" name="PlaceHolder 2"/>
          <p:cNvSpPr>
            <a:spLocks noGrp="1"/>
          </p:cNvSpPr>
          <p:nvPr>
            <p:ph type="subTitle"/>
          </p:nvPr>
        </p:nvSpPr>
        <p:spPr>
          <a:xfrm>
            <a:off x="0" y="3123720"/>
            <a:ext cx="9144000" cy="25909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minique Sibley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4515B-96D0-415F-977B-2161362686DF}" type="datetime2">
              <a:rPr b="0" lang="en-US" sz="3200" spc="-1" strike="noStrike">
                <a:solidFill>
                  <a:srgbClr val="ffffff"/>
                </a:solidFill>
                <a:latin typeface="Times New Roman"/>
              </a:rPr>
              <a:t>Thursday, July 30, 2026</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urpose</a:t>
            </a:r>
            <a:endParaRPr b="0" lang="en-US" sz="4400" spc="-1" strike="noStrike">
              <a:solidFill>
                <a:srgbClr val="ffcc66"/>
              </a:solidFill>
              <a:latin typeface="Arial"/>
            </a:endParaRPr>
          </a:p>
        </p:txBody>
      </p:sp>
      <p:sp>
        <p:nvSpPr>
          <p:cNvPr id="100" name="PlaceHolder 2"/>
          <p:cNvSpPr>
            <a:spLocks noGrp="1"/>
          </p:cNvSpPr>
          <p:nvPr>
            <p:ph/>
          </p:nvPr>
        </p:nvSpPr>
        <p:spPr>
          <a:xfrm>
            <a:off x="685800" y="1752120"/>
            <a:ext cx="7772400" cy="434340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ll the movie im doing is about poison frogs they are like creature leap far or jump far they lie to eat a lot of fly's and they only live on land and pond but they have little thing called tadpoles that are small there like little fish they are actually little frogs that soon to be frogs but poison frogs are dangerous and they can hurt you or get you sick so that’s all im going to talk about because there not much room  </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y to have a good setting like something different from your class is doing </a:t>
            </a:r>
            <a:endParaRPr b="0" lang="en-US" sz="2800" spc="-1" strike="noStrike">
              <a:solidFill>
                <a:srgbClr val="ffffff"/>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utline Your Idea</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be great story teller you will need to have good writing prompt and excellent details about what animal you are talking abou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hree act structure </a:t>
            </a:r>
            <a:r>
              <a:rPr b="0" lang="en-US" sz="2800" spc="-1" strike="noStrike">
                <a:solidFill>
                  <a:srgbClr val="ffffff"/>
                </a:solidFill>
                <a:latin typeface="Times New Roman"/>
              </a:rPr>
              <a:t>is very familiar for fiction.</a:t>
            </a:r>
            <a:endParaRPr b="0" lang="en-US" sz="28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ou need to have a good introduction when you start your movie </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climax were you tell stuff like how the problem or situation get solved in the middle of it </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ou need a good ending to the movie you are making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siness Model</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m how I will get paid is I will probably tell people to put it in movie theaters and then it will become famou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cause it will inform people to look or watch your movi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19:05:47Z</dcterms:created>
  <dc:creator/>
  <dc:description/>
  <dc:language>en-US</dc:language>
  <cp:lastModifiedBy>City School</cp:lastModifiedBy>
  <dcterms:modified xsi:type="dcterms:W3CDTF">2013-02-20T19:32:44Z</dcterms:modified>
  <cp:revision>39</cp:revision>
  <dc:subject/>
  <dc:title>The Pitch-Then-Plan Business Planning Template</dc:title>
</cp:coreProperties>
</file>